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C89-C735-4A51-AF61-43416D21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336-E1BF-4780-945D-B7720A73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714-BBBF-44B1-A461-C8299896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2C0-9FD2-4FBE-B326-4C2C650D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3AB-68C3-4FE9-A55E-E9A9B3B8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D61-A2A1-4D9E-9668-63A708CB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C51-05D5-4C01-8419-6152B525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860-D5B4-463C-A1DE-0A9484D0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D3B-01BA-498B-9A25-27E4E4D0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7BC-7460-487C-B179-C8D9C25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3BC-0345-4142-9C98-3FBD848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944-ABF0-426E-AD34-E6957704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3846-5EB1-4D61-A4C8-9750F69E8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чет необходимого объема удобрения для внес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2565360"/>
            <a:ext cx="7704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 удобрения, мл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мая дозировка, мг/л 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 аквариума, л : концентрацию вещества в удобрении, г/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счет азота в нитрат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фосфора в фосф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рат = азот х  4,4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3 = 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4,4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сфат = фосфор х 3,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4 = P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3,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готовление монораствор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кроэлем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рат – 163гр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3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ить водой до 1 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центрация нитрата – 100г./л. (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3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сфат – 14,3гр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H2PO4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ить водой до 1 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ация фосфата – 10г./л.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ий – 120гр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2SO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лить водой до 1 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ац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ия – 50г./л. (К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е среднедневного потребления макроэле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ст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3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сен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ст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сен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280" y="5444640"/>
            <a:ext cx="8147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Дн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ная доза нитрата  – 40 / 7 = 6м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Дн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ная доза фосфата – 50 / 7 = 7м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е среднедневного потребления макроэле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484280"/>
          <a:ext cx="8229600" cy="3932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ст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3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сен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ст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сен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5:45:08Z</dcterms:created>
  <dc:creator>GOREZ</dc:creator>
  <dc:description/>
  <dc:language>en-US</dc:language>
  <cp:lastModifiedBy>GOREZ</cp:lastModifiedBy>
  <dcterms:modified xsi:type="dcterms:W3CDTF">2013-07-11T18:37:41Z</dcterms:modified>
  <cp:revision>8</cp:revision>
  <dc:subject/>
  <dc:title>Расчет необходимого объема удобрения для внесения</dc:title>
</cp:coreProperties>
</file>